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AF45-F9A8-4456-9959-1BCB53BF20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7DA7-DBBE-4ADE-AB82-A8A84DEDD3F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E95E0-8D84-4C26-B85E-3ECF5320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41AB0-4876-48C5-B6C3-E4F18787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31D2D-ADD7-4368-8204-275AFE21A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1ACED-A1C0-431C-9F4B-C04F665C3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16B93-85F0-4C45-841F-F67AB3A9F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A80EE-DEC1-4805-A5C4-7B00AE68D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CDD47-79F7-4876-A3B2-D1B7AFBAB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5E631-38AF-4FA1-8AB7-28C35BE20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4C6CE-EA45-4A6C-9C11-46E446B32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C7617-098D-4630-8581-59D453CDF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E49D-8E71-430D-BCFA-9370486A4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7AFD-6274-4DA5-8027-03689847B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2CF7B-3575-4072-B880-EB218BC8D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A7FA2-8984-46CD-925A-E5C37A4F5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F5C0-9263-4E1F-BE87-06FDCD087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FFBD0-CB3F-4524-871B-D85F1E4E4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47ECA-5573-4395-8A9F-594D4D06D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028C3-713B-4BCF-B5E5-B8B3599CE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FAEAC-8C38-4527-A6EC-46AFDE1DA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1E71D-0FEE-411C-9F3D-06F213F86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CFB2E6-630C-4D73-9908-0B00EE9A9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A10CC-DA8A-4E02-9B61-AA52B5A33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643FB-4441-46C2-B85F-FFDC7580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32CFB8-8271-4A87-BCAB-3522F4DE3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DFA66-1063-426F-82E8-796B02467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2E856-1528-42B4-872B-94206E9F3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368DB-C421-4EDC-90E7-B2C4F1CEE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73304-FFB2-490E-BE22-DC6C127B1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F7149-2DE8-433E-9A90-58AEB0BB5F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EB48EE-7699-43C1-AAC5-B7D623E3D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C866DC-4B36-4CBD-89A2-EC57AF036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E0BBB-30F6-4C4C-BA1E-061ABA292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58C9E-D856-4B93-AAE3-E469DE9AE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9F5FA-393D-4180-A61D-649E488ED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F9640-5FDF-43FC-9AC9-CFE2F0AD6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7556A-0DB4-4A25-8F0E-5E0F9F915B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C0B61B-A5EE-441C-A4FF-9A2C12EE9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545ED-158E-4997-A886-E57D1B8BF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19BAB-3208-4118-BE9C-1363079E5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4D660-E59E-48FC-BD23-96EB41176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23290-08DD-452C-829F-88147768BF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AECAB8-DE3A-4902-895A-BE604DF2E4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FBF139-063F-44E0-BFF4-7CFBECEDF0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4EDA5-262D-4498-AE93-B04C810535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F8404-F72E-4AAB-B538-0F1ABF786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1924F8-E50C-48C9-9653-3E1D32D61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9894A-2965-406F-BAD0-DF01AE148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992F1C-44D0-4CD0-A792-CF1755F5C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A32CC-A64A-4DD4-8F92-0033B9B87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467E8-0EA0-45EA-A8BF-279A17B11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FC7A9-6209-4F0D-B707-2CE9A8787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A13330-055E-4E44-9DE8-747CB74C9F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90A714-4213-49FA-880D-CA45103A2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9BE00-8D6A-419F-BABE-CCDCD78F7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191036-F76B-4D50-9179-29B108CD7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63A5-1B9D-4C67-B409-7A7430E1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C6914D-449D-4AF2-9981-98AFB9DCEE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680269-3925-4697-B7BA-34B624353A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0FF98-2215-4045-9D2C-BA5D7D804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B9B63-5635-43C6-AA03-E3106912F2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EFE3A-29AB-492B-A966-EB63D4120F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F6C90-9446-4C4F-BF5B-F4F9DD64B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47FEA-3B90-4CE7-8B3D-41B5AFC89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37FF5-917F-4EC1-B0A8-5FE526ADE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BCF12-148D-4B3C-BB2D-8DA1F1F6F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DE399-10C0-4166-9875-03E10650C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BAE7-3A7A-4E0A-95B4-26F35FDD7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69481-90EA-4859-AFA0-8A62D68B0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0BB303-C7D8-45E3-992B-380E95B8DB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918F7D-47BF-4C00-A7CC-2391986536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B38AA8-F66C-4CD1-B48E-528A2A60B3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7F3C1-8ADA-43CF-B20A-B24BD477B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21BD01-E880-46A1-8E69-BA7151F654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1CAC6-B6F0-4F60-A489-32316B946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906AE-715C-466F-BDC7-8C602F60DA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9A2EE-7D29-4E94-B375-EE85EBEC1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6E138-FCEA-4872-AC8A-938062616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7E186-6A17-448B-93DE-631533395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4C4EA-50E3-4A7C-AB5A-C5752FA8C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316E1A-9874-4B22-A945-E276B161B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63377-86B7-44D0-B7FB-CA396B23F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A54DF5-69F2-4A57-9333-56DDC2F7F7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31A9A6-5DA0-4DBC-8891-FE42E9BE60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5EE6-8A05-4A01-A39C-DE405C53E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603E-88F5-4327-86AF-2A7443E9FC8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4A7B-F0C1-4191-8810-A4284A436D79}"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F1E3-59A2-42EC-BDAF-20EC0A0BB99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3D60-4866-45FE-9941-EEB74090F8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A287-4CEF-491A-AC67-1EB954D34C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9256-997B-445E-8AFE-1D4171F864F8}"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FA22-3558-467A-A7E3-5463EC0E6671}"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youtube.com/watch?v=zHDrLxd9tK0" TargetMode="External"/><Relationship Id="rId3" Type="http://schemas.openxmlformats.org/officeDocument/2006/relationships/hyperlink" Target="http://www.youtube.com/watch?v=sA4cQoz3hOs" TargetMode="External"/><Relationship Id="rId4" Type="http://schemas.openxmlformats.org/officeDocument/2006/relationships/slideLayout" Target="../slideLayouts/slideLayout3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campesinos1"/>
          <p:cNvPicPr/>
          <p:nvPr/>
        </p:nvPicPr>
        <p:blipFill>
          <a:blip r:embed="rId1"/>
          <a:stretch/>
        </p:blipFill>
        <p:spPr>
          <a:xfrm>
            <a:off x="539640" y="907920"/>
            <a:ext cx="4469040" cy="2997360"/>
          </a:xfrm>
          <a:prstGeom prst="rect">
            <a:avLst/>
          </a:prstGeom>
          <a:ln w="0">
            <a:noFill/>
          </a:ln>
        </p:spPr>
      </p:pic>
      <p:pic>
        <p:nvPicPr>
          <p:cNvPr id="309" name="Picture 7" descr="ANd9GcTBCs0FbKmlDZD2SGq4ZmAQUXnadcj3AKydgp3JV7dm_72bV-ST"/>
          <p:cNvPicPr/>
          <p:nvPr/>
        </p:nvPicPr>
        <p:blipFill>
          <a:blip r:embed="rId2"/>
          <a:stretch/>
        </p:blipFill>
        <p:spPr>
          <a:xfrm>
            <a:off x="539640" y="4437000"/>
            <a:ext cx="4392720" cy="2149560"/>
          </a:xfrm>
          <a:prstGeom prst="rect">
            <a:avLst/>
          </a:prstGeom>
          <a:ln w="0">
            <a:noFill/>
          </a:ln>
        </p:spPr>
      </p:pic>
      <p:pic>
        <p:nvPicPr>
          <p:cNvPr id="310" name="Picture 9" descr="edad_media_campesino"/>
          <p:cNvPicPr/>
          <p:nvPr/>
        </p:nvPicPr>
        <p:blipFill>
          <a:blip r:embed="rId3"/>
          <a:stretch/>
        </p:blipFill>
        <p:spPr>
          <a:xfrm>
            <a:off x="5564160" y="1566720"/>
            <a:ext cx="3133800" cy="5021280"/>
          </a:xfrm>
          <a:prstGeom prst="rect">
            <a:avLst/>
          </a:prstGeom>
          <a:ln w="0">
            <a:noFill/>
          </a:ln>
        </p:spPr>
      </p:pic>
      <p:sp>
        <p:nvSpPr>
          <p:cNvPr id="311" name="1 CuadroTexto"/>
          <p:cNvSpPr/>
          <p:nvPr/>
        </p:nvSpPr>
        <p:spPr>
          <a:xfrm>
            <a:off x="684360" y="1197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a:t>
            </a:r>
            <a:endParaRPr b="0" lang="en-US" sz="1800" spc="-1" strike="noStrike">
              <a:solidFill>
                <a:srgbClr val="ffffff"/>
              </a:solidFill>
              <a:latin typeface="Arial"/>
            </a:endParaRPr>
          </a:p>
        </p:txBody>
      </p:sp>
      <p:sp>
        <p:nvSpPr>
          <p:cNvPr id="312" name="2 CuadroTexto"/>
          <p:cNvSpPr/>
          <p:nvPr/>
        </p:nvSpPr>
        <p:spPr>
          <a:xfrm>
            <a:off x="5727600" y="177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ffffff"/>
              </a:solidFill>
              <a:latin typeface="Arial"/>
            </a:endParaRPr>
          </a:p>
        </p:txBody>
      </p:sp>
      <p:sp>
        <p:nvSpPr>
          <p:cNvPr id="313" name="6 CuadroTexto"/>
          <p:cNvSpPr/>
          <p:nvPr/>
        </p:nvSpPr>
        <p:spPr>
          <a:xfrm>
            <a:off x="1332000" y="46530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3 Título" descr=""/>
          <p:cNvPicPr/>
          <p:nvPr/>
        </p:nvPicPr>
        <p:blipFill>
          <a:blip r:embed="rId1"/>
          <a:stretch/>
        </p:blipFill>
        <p:spPr>
          <a:xfrm>
            <a:off x="384120" y="274680"/>
            <a:ext cx="42840" cy="1066680"/>
          </a:xfrm>
          <a:prstGeom prst="rect">
            <a:avLst/>
          </a:prstGeom>
          <a:ln w="0">
            <a:noFill/>
          </a:ln>
        </p:spPr>
      </p:pic>
      <p:sp>
        <p:nvSpPr>
          <p:cNvPr id="315" name="PlaceHolder 1"/>
          <p:cNvSpPr>
            <a:spLocks noGrp="1"/>
          </p:cNvSpPr>
          <p:nvPr>
            <p:ph/>
          </p:nvPr>
        </p:nvSpPr>
        <p:spPr>
          <a:xfrm>
            <a:off x="179280" y="0"/>
            <a:ext cx="8640720" cy="6858000"/>
          </a:xfrm>
          <a:prstGeom prst="rect">
            <a:avLst/>
          </a:prstGeom>
          <a:noFill/>
          <a:ln w="0">
            <a:noFill/>
          </a:ln>
        </p:spPr>
        <p:txBody>
          <a:bodyPr anchor="t">
            <a:normAutofit/>
          </a:bodyPr>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1. Se puede apreciar una hoguera, con una familia rodeándola. También se ve al ganado. Creemos que es una cabaña, porque esta echa madera, también se ve que el techo esta echo de paja. Creemos que el ganado esta dentro de la casa porque calientan. Esta una familia entera seguramente porque en esa época no tenían mucho dinero.</a:t>
            </a: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2. Se puede apreciar en la segunda imagen que hay un arado muy primitivo, el arado es una forma de cultivar las semillas más fácilmente del arado tira dos caballos pero normalmente suele tirar un par de mulas</a:t>
            </a:r>
            <a:r>
              <a:rPr b="0" lang="es-ES" sz="2800" spc="-1" strike="noStrike">
                <a:solidFill>
                  <a:srgbClr val="ffffff"/>
                </a:solidFill>
                <a:latin typeface="Century Gothic"/>
              </a:rPr>
              <a:t>. </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384120" y="274680"/>
            <a:ext cx="42840" cy="127080"/>
          </a:xfrm>
          <a:prstGeom prst="rect">
            <a:avLst/>
          </a:prstGeom>
          <a:ln w="0">
            <a:noFill/>
          </a:ln>
        </p:spPr>
      </p:pic>
      <p:sp>
        <p:nvSpPr>
          <p:cNvPr id="317" name="PlaceHolder 1"/>
          <p:cNvSpPr>
            <a:spLocks noGrp="1"/>
          </p:cNvSpPr>
          <p:nvPr>
            <p:ph/>
          </p:nvPr>
        </p:nvSpPr>
        <p:spPr>
          <a:xfrm>
            <a:off x="468000" y="404280"/>
            <a:ext cx="8064360" cy="597708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3. En la imagen se puede apreciar un campesino de la baja edad media con una herramienta para el arado. Se ve que vive de forma pobre por sus ropas harapientas.</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uede ser de dos tipos de campesinos : Villanos (Campesinos libres que no tienen dueño y si tienen pocos derechos) y esclavos(No tienen derechos y tienen un dueñ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71360" y="274680"/>
            <a:ext cx="7448760" cy="1359000"/>
          </a:xfrm>
          <a:prstGeom prst="rect">
            <a:avLst/>
          </a:prstGeom>
          <a:ln w="0">
            <a:noFill/>
          </a:ln>
        </p:spPr>
      </p:pic>
      <p:sp>
        <p:nvSpPr>
          <p:cNvPr id="319" name="PlaceHolder 1"/>
          <p:cNvSpPr>
            <a:spLocks noGrp="1"/>
          </p:cNvSpPr>
          <p:nvPr>
            <p:ph/>
          </p:nvPr>
        </p:nvSpPr>
        <p:spPr>
          <a:xfrm>
            <a:off x="380520" y="1633680"/>
            <a:ext cx="8512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2"/>
              </a:rPr>
              <a:t>Invento del Arado.</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3"/>
              </a:rPr>
              <a:t>Baja Edad Media</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1 Título" descr=""/>
          <p:cNvPicPr/>
          <p:nvPr/>
        </p:nvPicPr>
        <p:blipFill>
          <a:blip r:embed="rId1"/>
          <a:stretch/>
        </p:blipFill>
        <p:spPr>
          <a:xfrm>
            <a:off x="2494080" y="262080"/>
            <a:ext cx="3376440" cy="1358640"/>
          </a:xfrm>
          <a:prstGeom prst="rect">
            <a:avLst/>
          </a:prstGeom>
          <a:ln w="0">
            <a:noFill/>
          </a:ln>
        </p:spPr>
      </p:pic>
      <p:sp>
        <p:nvSpPr>
          <p:cNvPr id="321" name="PlaceHolder 1"/>
          <p:cNvSpPr>
            <a:spLocks noGrp="1"/>
          </p:cNvSpPr>
          <p:nvPr>
            <p:ph/>
          </p:nvPr>
        </p:nvSpPr>
        <p:spPr>
          <a:xfrm>
            <a:off x="380880" y="1633680"/>
            <a:ext cx="8439120" cy="4819680"/>
          </a:xfrm>
          <a:prstGeom prst="rect">
            <a:avLst/>
          </a:prstGeom>
          <a:noFill/>
          <a:ln w="0">
            <a:noFill/>
          </a:ln>
        </p:spPr>
        <p:txBody>
          <a:bodyPr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arkel Odriozola.</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iguel Ángel M. Gutiérrez.</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Darío S. Zabala.</a:t>
            </a:r>
            <a:endParaRPr b="0" lang="en-US" sz="4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08:35:44Z</dcterms:created>
  <dc:creator>IR015252AG</dc:creator>
  <dc:description/>
  <dc:language>en-US</dc:language>
  <cp:lastModifiedBy>Artaza Romo Ikaslea</cp:lastModifiedBy>
  <dcterms:modified xsi:type="dcterms:W3CDTF">2014-02-14T13:10:33Z</dcterms:modified>
  <cp:revision>11</cp:revision>
  <dc:subject/>
  <dc:title>Diapositiva 1</dc:title>
</cp:coreProperties>
</file>